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A8DD-1137-4C67-A110-17FF51A76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6784-3284-41F7-8DE6-102C5B88B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1489-D04C-4278-A082-6486C7206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-linked alleles are always expressed in males, because males have only one X chromosome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Males who receive the recessive 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llele all have colorblindness. Females, however, will have colorblindness only if they receive two 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lle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88A0-3674-4C00-824B-D2DE37C7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F599-A8A9-492E-AB21-C03A7CB2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56B-7C54-4F32-BA55-7EA75383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8FA7-CEDA-483A-89B6-82887B4B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D722-E4FD-4A2C-BFFE-8287BFBF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41FE-090F-4F4B-99AF-2BFBF292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2174-2280-4A51-95A1-10CD3F24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CB45-42F4-40C4-B5B6-75FB3EC4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29CC-1121-4FED-8F37-DA01D31A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2F43-5504-4D4E-BE02-BC3284C3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104E-20D7-4245-A60E-D21282CC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5081-23AB-4F46-9018-EBE1A1F6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47CA-8870-4BCE-94F0-AEF5CF39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4E7A-3179-496B-B6BF-61390FDD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44A2-48E4-4306-ABD2-F666C1DC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6395-160C-4469-B71B-B4EDA6BF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D018-5273-40BF-929B-BFC903B6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105A0-3260-46AB-A9BC-260E46A9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161B8-37AB-4FCB-A3DA-780D4AE4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552CA-2E05-46EA-8949-5C5BCF05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3FD33-6285-4998-92B0-693242A3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D3BB5-30E5-425E-BCF3-F88375CA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4D02-DB54-43E1-8C7B-694EA4CD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19227-8A41-4781-8C75-A6C3C140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858EE-A14F-495A-9B6A-79ED00CA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3B778-AEE8-4F71-B60E-E773FBC9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5967C-BEAB-44E8-93D5-297205DF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DD3E7-8608-4F2C-9ED1-D1A67091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6B237-208A-4D42-99B9-9A449631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87F02-C837-4118-A16F-A537689B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FC964-4121-479D-9EE5-AB87F79F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6D357-3809-4AA4-925C-D7CFE357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B1CF3-738D-434C-8C34-FDA3B909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2C87-8C69-418E-AAB6-78458805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DDD1F-78E3-4F7B-8FAF-B3FC4F3D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B6CDF-E4F5-4822-930B-A88D24B6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7E541-1B13-40CF-B4DD-FB70BD28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8D7E2-0CA3-4915-AEAF-6F1480F6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937C9-8C60-4D01-8539-1D4622BB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9E977-10ED-4A93-BA34-406A2CA3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6B5FD-DF9A-43D5-B2EF-EF34C006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C54B7-AD07-4B16-9BE6-9B23DBDD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05A58-6C63-418A-8317-272B3C23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A45FA-F313-40E8-895E-875F56C8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AFA-7942-4D15-8C11-F172F63D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9B580-234A-44F5-B2AA-F517F7B0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18972-9860-4C9D-B3C7-F041918A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54B0D-510B-47F4-ABF4-687F21B3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EAA69-73AB-4B3B-AD92-DB840A6D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B13A9-5746-4AB1-9B4F-6C2A433C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2EB25-9546-4988-B6D3-9743E293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9B7EE-34E5-40DA-B44E-AB3B209C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E5481-B973-4E73-8B3F-CE47C0DC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C159B-6063-49B2-BDFC-E9AB6818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F9FE2-61D2-4AB7-A421-E71DF6BC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5116-2B60-40F0-B71E-7BA108FB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88293-2A30-4A25-A6CB-655599EC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29CF3-CC9A-4AF5-855E-ECA828A4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0A538-43C6-4711-BD35-2AB30B69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71D92-9C43-4CBD-A501-8F53F18F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538E6-C8C3-4A8D-ACD0-67CF3EF5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E50B2-7FBF-4E32-BBBD-B4D15FB6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F73E8-7BEB-40D8-B917-EE0F7698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3D071-A8B3-4614-8D71-011D8ED4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0F426-F84B-464F-8E05-E8591966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46794-0EE6-4609-AE43-2894B1AB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69BC-969D-4B80-A65F-47556878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64998-4B42-488B-A375-8F5DCFA7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E1DAD-2BF8-439B-AB8D-80C68C41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A6643-D67A-463E-90A3-AC02E87B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11BFA-C106-4B18-B82E-FB09BB76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86F5F-7205-4FCA-985F-2120CE82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17D8F-7F32-4FB7-AF8F-565EAAE1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042F3-11C0-46BA-B39A-C06E5D45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17834-F54D-4E84-B241-87DAAF5E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DE85F-8CEE-4210-BD86-C829CDAB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B5827-B252-4C41-A05D-150AED1D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D57D-742F-4A91-AD77-E540639A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980B5-4FF2-4982-9F3A-0B70E145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1A7DF-517F-4B56-AB74-61FE921F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A6E8C-5DBD-4C5C-A500-4FF607AB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88A4D-12B3-467D-95C1-146A2E49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779FD-3A33-4A88-BAC8-C556A28D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D358C-B1B7-410E-A9BF-D2A6993E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7A342-D322-4B53-AC7C-ED3012C6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161D2-FF1C-4ADB-B92E-ED86E6F6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337A3-3585-4842-A439-975AB719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EED81-03AE-488B-AD2F-A181DC49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8D8-6FBD-4622-9866-A7C3982E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60F2E-5155-4661-9D2D-3AC82002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8259D-321B-4672-8D8F-5878F5B0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BB9E7-B3E5-493F-B2C1-1AFE9B3E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01D4F-6610-4BF6-ADCA-FF31B16C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6820E-FF88-4C45-9E8C-D9C47840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B4103-0357-4918-A3CA-DDA6E468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D1362-5380-49FA-92C0-CB9E73E0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081C-4B10-4620-8276-D512D6F8CED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E913-A316-4248-9A97-6EFC2198334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1D88-AC1D-4EB2-80C8-E0C755B0267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7373-099F-42E0-BC83-E582A443EBC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7282-8F42-41F9-BFC7-787DE795707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C172-7978-4D9F-A875-699087E251E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DF85-DE3D-4328-AD4D-863387C6E26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BD67-9936-4742-A526-E531F3102C5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894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8067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uchenne Muscular Dystroph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X-linked cond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fferers lack a muscle protein, skeletal muscle degra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42674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e of the X chromosomes is inactivated in females (randomly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romosome forms a dense region that attaches to nuclear envelo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ins darker, visible under light microsco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lled a Barr Bo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covered by a Canadian cytogeneticist Dr Murray L. Bar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291636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304920" y="3505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ther dark spots are nucle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http://www.corbisimages.com/images/Corbis-IH036705.jpg?size=67&amp;uid=255e60f4-8b98-463a-865c-5baa884506d8"/>
          <p:cNvPicPr/>
          <p:nvPr/>
        </p:nvPicPr>
        <p:blipFill>
          <a:blip r:embed="rId1"/>
          <a:stretch/>
        </p:blipFill>
        <p:spPr>
          <a:xfrm>
            <a:off x="-20520" y="380880"/>
            <a:ext cx="9164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www.profimedia.si/photo/barr-body-in-a-female-squamous-epithelial/profimedia-0087691112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in 1966 Olympics to test for males attempting to pass as fema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ulted in the stripping of medals from individuals because of ambiguous genital se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netic defect that allows males to appear as fema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o successfully indentified a number of cases of testicular feminization syndrome (androgen insensitivity syndrom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rror in androgen receptors resulting in XY individual developing phenotypically as fema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all that the 2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chromosome in humans dictates the gender of the individu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Y chromosome is much smaller, and carries much less genetic inf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4419720" cy="4971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6019920" y="2133720"/>
            <a:ext cx="2028600" cy="1952640"/>
          </a:xfrm>
          <a:prstGeom prst="rect">
            <a:avLst/>
          </a:prstGeom>
          <a:ln w="0">
            <a:noFill/>
          </a:ln>
        </p:spPr>
      </p:pic>
      <p:sp>
        <p:nvSpPr>
          <p:cNvPr id="383" name="TextBox 5"/>
          <p:cNvSpPr/>
          <p:nvPr/>
        </p:nvSpPr>
        <p:spPr>
          <a:xfrm>
            <a:off x="990720" y="3808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X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6"/>
          <p:cNvSpPr/>
          <p:nvPr/>
        </p:nvSpPr>
        <p:spPr>
          <a:xfrm>
            <a:off x="5257800" y="15238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>
            <a:off x="457200" y="32004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Colourbli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0"/>
          <p:cNvSpPr/>
          <p:nvPr/>
        </p:nvSpPr>
        <p:spPr>
          <a:xfrm>
            <a:off x="457200" y="3581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Hemoph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3"/>
          <a:stretch/>
        </p:blipFill>
        <p:spPr>
          <a:xfrm>
            <a:off x="1676520" y="3276720"/>
            <a:ext cx="581040" cy="152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"/>
          <p:cNvPicPr/>
          <p:nvPr/>
        </p:nvPicPr>
        <p:blipFill>
          <a:blip r:embed="rId4"/>
          <a:stretch/>
        </p:blipFill>
        <p:spPr>
          <a:xfrm>
            <a:off x="1371600" y="3657600"/>
            <a:ext cx="885960" cy="133200"/>
          </a:xfrm>
          <a:prstGeom prst="rect">
            <a:avLst/>
          </a:prstGeom>
          <a:ln w="0">
            <a:noFill/>
          </a:ln>
        </p:spPr>
      </p:pic>
      <p:sp>
        <p:nvSpPr>
          <p:cNvPr id="389" name="TextBox 9"/>
          <p:cNvSpPr/>
          <p:nvPr/>
        </p:nvSpPr>
        <p:spPr>
          <a:xfrm>
            <a:off x="1447920" y="5867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0-1600 g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1"/>
          <p:cNvSpPr/>
          <p:nvPr/>
        </p:nvSpPr>
        <p:spPr>
          <a:xfrm>
            <a:off x="5715000" y="4267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-200 g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1722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nes found on the either chromosome are called sex-linked trai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ar more are found on the X, and not found on the 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oes this mean for males?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y are more susceptible to conditions found on the Y chromos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X-linked conditions are expressed more so in ma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result from a defect in one of three genes found on X chromos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2"/>
          <a:stretch/>
        </p:blipFill>
        <p:spPr>
          <a:xfrm>
            <a:off x="1143000" y="28195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"/>
          <p:cNvPicPr/>
          <p:nvPr/>
        </p:nvPicPr>
        <p:blipFill>
          <a:blip r:embed="rId3"/>
          <a:stretch/>
        </p:blipFill>
        <p:spPr>
          <a:xfrm>
            <a:off x="5181480" y="27432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9436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93320" y="1219320"/>
            <a:ext cx="380052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ossible Inheritance of Colorblindness Allel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Picture 16" descr="allele 2"/>
          <p:cNvPicPr/>
          <p:nvPr/>
        </p:nvPicPr>
        <p:blipFill>
          <a:blip r:embed="rId1"/>
          <a:stretch/>
        </p:blipFill>
        <p:spPr>
          <a:xfrm>
            <a:off x="2230560" y="3497400"/>
            <a:ext cx="1841400" cy="8204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allele 3"/>
          <p:cNvPicPr/>
          <p:nvPr/>
        </p:nvPicPr>
        <p:blipFill>
          <a:blip r:embed="rId2"/>
          <a:stretch/>
        </p:blipFill>
        <p:spPr>
          <a:xfrm>
            <a:off x="934920" y="4554360"/>
            <a:ext cx="3097440" cy="20322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allele 4"/>
          <p:cNvPicPr/>
          <p:nvPr/>
        </p:nvPicPr>
        <p:blipFill>
          <a:blip r:embed="rId3"/>
          <a:stretch/>
        </p:blipFill>
        <p:spPr>
          <a:xfrm>
            <a:off x="3911760" y="419040"/>
            <a:ext cx="48812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emophil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nes for clotting found on X chromos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ects lead to deficiencies in expression of coagulation facto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tients blood does not clot as eas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uts can be fat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03:06:44Z</dcterms:created>
  <dc:creator>ED18</dc:creator>
  <dc:description/>
  <dc:language>en-US</dc:language>
  <cp:lastModifiedBy>ED18</cp:lastModifiedBy>
  <dcterms:modified xsi:type="dcterms:W3CDTF">2012-04-05T13:03:00Z</dcterms:modified>
  <cp:revision>6</cp:revision>
  <dc:subject/>
  <dc:title>Sex Linkage</dc:title>
</cp:coreProperties>
</file>